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6492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476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6492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476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E349-6305-4CE8-BE76-33E272B3A6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2998-1835-4377-B94C-F8626F2F3B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1FFE-2DA6-481D-9E40-1EE23B6A0F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AA01-B551-48D8-B5DD-B9A1D2596E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2329-79CE-4703-9079-5EB5899BD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63A4-707F-4BEC-BE4D-F7D57BE0D3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772A-97DA-4238-AFAD-83D30B1077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807A-14EB-4CC1-8B56-B1DCCBF27D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4B26-4A38-42D5-874E-E61A170026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2569-B327-42CB-8AFC-D1D44562FD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AF2E-BBD2-4A30-B78A-559CC52205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6492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476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6492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476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2EEF-D274-423E-90B5-A1435AA6D3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6492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476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6492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476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665E-E3EC-4717-A8CD-DBD23FC85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9F41-3CD7-4D7E-90A8-54B53F3730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8624-6E74-4347-9053-3495AFD90E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7504-A24A-4C18-9D3B-589F3BF35D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C568-2BB2-45DB-B660-4479548273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4C97-D741-4DB8-87B3-FDF0EB7D30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FBFA-D6EA-4FF7-AB89-C3708EDD40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6749-F433-4056-A652-45CA97C615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BF07-41E1-4A82-80BB-851EDFBCF8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1ABA-70F2-4A61-BA62-B4FF0BD7E9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6925-E616-434F-82E4-211B75A40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6492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4476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6492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4476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FFDA-535E-41B7-89F1-9296B03C8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4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"/>
            <p:cNvGrpSpPr/>
            <p:nvPr/>
          </p:nvGrpSpPr>
          <p:grpSpPr>
            <a:xfrm>
              <a:off x="3424320" y="2833560"/>
              <a:ext cx="2284200" cy="1184400"/>
              <a:chOff x="3424320" y="2833560"/>
              <a:chExt cx="2284200" cy="1184400"/>
            </a:xfrm>
          </p:grpSpPr>
          <p:sp>
            <p:nvSpPr>
              <p:cNvPr id="3" name="Rectangle 9"/>
              <p:cNvSpPr/>
              <p:nvPr/>
            </p:nvSpPr>
            <p:spPr>
              <a:xfrm>
                <a:off x="3424320" y="2833560"/>
                <a:ext cx="142920" cy="11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3854520" y="3168720"/>
                <a:ext cx="142920" cy="84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4284720" y="3003480"/>
                <a:ext cx="142920" cy="10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5138640" y="3166920"/>
                <a:ext cx="142920" cy="84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4711680" y="2835360"/>
                <a:ext cx="142920" cy="11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5565600" y="2836800"/>
                <a:ext cx="142920" cy="11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2292480"/>
          </a:xfrm>
          <a:prstGeom prst="rect">
            <a:avLst/>
          </a:prstGeom>
          <a:solidFill>
            <a:srgbClr val="004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2292480"/>
            <a:ext cx="9144000" cy="290520"/>
          </a:xfrm>
          <a:prstGeom prst="rect">
            <a:avLst/>
          </a:prstGeom>
          <a:solidFill>
            <a:srgbClr val="898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500120" y="2770200"/>
            <a:ext cx="2667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Prepared for:</a:t>
            </a:r>
            <a:br>
              <a:rPr sz="1500"/>
            </a:b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Prepared by:</a:t>
            </a:r>
            <a:br>
              <a:rPr sz="1500"/>
            </a:b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595440" y="6018120"/>
            <a:ext cx="1681200" cy="476280"/>
            <a:chOff x="595440" y="6018120"/>
            <a:chExt cx="1681200" cy="476280"/>
          </a:xfrm>
        </p:grpSpPr>
        <p:sp>
          <p:nvSpPr>
            <p:cNvPr id="51" name="WordArt 11"/>
            <p:cNvSpPr txBox="1"/>
            <p:nvPr/>
          </p:nvSpPr>
          <p:spPr>
            <a:xfrm>
              <a:off x="595440" y="6018120"/>
              <a:ext cx="91440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898887"/>
                  </a:solidFill>
                  <a:latin typeface="Verdana"/>
                </a:rPr>
                <a:t>puls</a:t>
              </a:r>
              <a:endParaRPr b="0" lang="en-US" sz="2000" spc="1" strike="noStrike">
                <a:ln w="0">
                  <a:noFill/>
                </a:ln>
                <a:solidFill>
                  <a:srgbClr val="898887"/>
                </a:solidFill>
                <a:latin typeface="Verdana"/>
                <a:ea typeface="Verdana"/>
              </a:endParaRPr>
            </a:p>
          </p:txBody>
        </p:sp>
        <p:grpSp>
          <p:nvGrpSpPr>
            <p:cNvPr id="52" name="Group 12"/>
            <p:cNvGrpSpPr/>
            <p:nvPr/>
          </p:nvGrpSpPr>
          <p:grpSpPr>
            <a:xfrm>
              <a:off x="1587600" y="6018120"/>
              <a:ext cx="689040" cy="376200"/>
              <a:chOff x="1587600" y="6018120"/>
              <a:chExt cx="689040" cy="376200"/>
            </a:xfrm>
          </p:grpSpPr>
          <p:sp>
            <p:nvSpPr>
              <p:cNvPr id="53" name="Rectangle 13"/>
              <p:cNvSpPr/>
              <p:nvPr/>
            </p:nvSpPr>
            <p:spPr>
              <a:xfrm>
                <a:off x="1587600" y="6018120"/>
                <a:ext cx="42840" cy="37620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1716120" y="6126120"/>
                <a:ext cx="42840" cy="26820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1844640" y="6073920"/>
                <a:ext cx="42840" cy="32040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1971720" y="6021360"/>
                <a:ext cx="42840" cy="37296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2100240" y="6126120"/>
                <a:ext cx="42840" cy="26820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2232000" y="6022800"/>
                <a:ext cx="44640" cy="37152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684080"/>
            <a:ext cx="7134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606480" y="2771280"/>
            <a:ext cx="500364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Roti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Roti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Roti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Roti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Roti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Roti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4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0" y="6313320"/>
            <a:ext cx="9144000" cy="578160"/>
          </a:xfrm>
          <a:prstGeom prst="rect">
            <a:avLst/>
          </a:prstGeom>
          <a:solidFill>
            <a:srgbClr val="004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2"/>
          <p:cNvSpPr txBox="1"/>
          <p:nvPr/>
        </p:nvSpPr>
        <p:spPr>
          <a:xfrm>
            <a:off x="574560" y="6418440"/>
            <a:ext cx="611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98887"/>
                </a:solidFill>
                <a:latin typeface="Verdana"/>
              </a:rPr>
              <a:t>puls</a:t>
            </a:r>
            <a:endParaRPr b="0" lang="en-US" sz="2000" spc="1" strike="noStrike">
              <a:ln w="0">
                <a:noFill/>
              </a:ln>
              <a:solidFill>
                <a:srgbClr val="898887"/>
              </a:solidFill>
              <a:latin typeface="Verdana"/>
              <a:ea typeface="Verdana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1249200" y="6419880"/>
            <a:ext cx="466920" cy="260280"/>
            <a:chOff x="1249200" y="6419880"/>
            <a:chExt cx="466920" cy="260280"/>
          </a:xfrm>
        </p:grpSpPr>
        <p:sp>
          <p:nvSpPr>
            <p:cNvPr id="101" name="Rectangle 24"/>
            <p:cNvSpPr/>
            <p:nvPr/>
          </p:nvSpPr>
          <p:spPr>
            <a:xfrm>
              <a:off x="1249200" y="6419880"/>
              <a:ext cx="284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5"/>
            <p:cNvSpPr/>
            <p:nvPr/>
          </p:nvSpPr>
          <p:spPr>
            <a:xfrm>
              <a:off x="1336320" y="6492600"/>
              <a:ext cx="2988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6"/>
            <p:cNvSpPr/>
            <p:nvPr/>
          </p:nvSpPr>
          <p:spPr>
            <a:xfrm>
              <a:off x="1425240" y="6457680"/>
              <a:ext cx="2844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1600200" y="6492600"/>
              <a:ext cx="2844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1512720" y="6419880"/>
              <a:ext cx="284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1687680" y="6419880"/>
              <a:ext cx="284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2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68000" y="1371240"/>
            <a:ext cx="81421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Roti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Roti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Roti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Roti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Roti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Roti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1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E362-D9FD-448B-9BA5-7FAC924027A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7" name="Group 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8" name="Rectangle 9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WordArt 10"/>
              <p:cNvSpPr txBox="1"/>
              <p:nvPr/>
            </p:nvSpPr>
            <p:spPr>
              <a:xfrm>
                <a:off x="3232080" y="3193920"/>
                <a:ext cx="2151000" cy="27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Ideae Via Facti</a:t>
                </a:r>
                <a:endPara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50" name="WordArt 11"/>
              <p:cNvSpPr txBox="1"/>
              <p:nvPr/>
            </p:nvSpPr>
            <p:spPr>
              <a:xfrm>
                <a:off x="3209760" y="3524400"/>
                <a:ext cx="735120" cy="16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marketing</a:t>
                </a:r>
                <a:endPara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51" name="WordArt 12"/>
              <p:cNvSpPr txBox="1"/>
              <p:nvPr/>
            </p:nvSpPr>
            <p:spPr>
              <a:xfrm>
                <a:off x="4019400" y="3522600"/>
                <a:ext cx="11448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&amp;</a:t>
                </a:r>
                <a:endPara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52" name="WordArt 13"/>
              <p:cNvSpPr txBox="1"/>
              <p:nvPr/>
            </p:nvSpPr>
            <p:spPr>
              <a:xfrm>
                <a:off x="4197240" y="3516480"/>
                <a:ext cx="436680" cy="18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public</a:t>
                </a:r>
                <a:endPara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53" name="WordArt 14"/>
              <p:cNvSpPr txBox="1"/>
              <p:nvPr/>
            </p:nvSpPr>
            <p:spPr>
              <a:xfrm>
                <a:off x="4700520" y="3519360"/>
                <a:ext cx="544680" cy="17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opinion</a:t>
                </a:r>
                <a:endPara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54" name="WordArt 15"/>
            <p:cNvSpPr txBox="1"/>
            <p:nvPr/>
          </p:nvSpPr>
          <p:spPr>
            <a:xfrm>
              <a:off x="5321160" y="3522600"/>
              <a:ext cx="59868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research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5" name="Rectangle 1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558720" y="6404040"/>
            <a:ext cx="1161720" cy="331560"/>
            <a:chOff x="558720" y="6404040"/>
            <a:chExt cx="1161720" cy="331560"/>
          </a:xfrm>
        </p:grpSpPr>
        <p:sp>
          <p:nvSpPr>
            <p:cNvPr id="196" name="WordArt 15"/>
            <p:cNvSpPr txBox="1"/>
            <p:nvPr/>
          </p:nvSpPr>
          <p:spPr>
            <a:xfrm>
              <a:off x="558720" y="6404040"/>
              <a:ext cx="631800" cy="33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898887"/>
                  </a:solidFill>
                  <a:latin typeface="Verdana"/>
                </a:rPr>
                <a:t>puls</a:t>
              </a:r>
              <a:endParaRPr b="0" lang="en-US" sz="2000" spc="1" strike="noStrike">
                <a:ln w="0">
                  <a:noFill/>
                </a:ln>
                <a:solidFill>
                  <a:srgbClr val="898887"/>
                </a:solidFill>
                <a:latin typeface="Verdana"/>
                <a:ea typeface="Verdana"/>
              </a:endParaRPr>
            </a:p>
          </p:txBody>
        </p:sp>
        <p:grpSp>
          <p:nvGrpSpPr>
            <p:cNvPr id="197" name="Group 16"/>
            <p:cNvGrpSpPr/>
            <p:nvPr/>
          </p:nvGrpSpPr>
          <p:grpSpPr>
            <a:xfrm>
              <a:off x="1244520" y="6404040"/>
              <a:ext cx="475920" cy="261720"/>
              <a:chOff x="1244520" y="6404040"/>
              <a:chExt cx="475920" cy="261720"/>
            </a:xfrm>
          </p:grpSpPr>
          <p:sp>
            <p:nvSpPr>
              <p:cNvPr id="198" name="Rectangle 17"/>
              <p:cNvSpPr/>
              <p:nvPr/>
            </p:nvSpPr>
            <p:spPr>
              <a:xfrm>
                <a:off x="1244520" y="6404040"/>
                <a:ext cx="29520" cy="26172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8"/>
              <p:cNvSpPr/>
              <p:nvPr/>
            </p:nvSpPr>
            <p:spPr>
              <a:xfrm>
                <a:off x="1333080" y="6478200"/>
                <a:ext cx="29520" cy="18540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9"/>
              <p:cNvSpPr/>
              <p:nvPr/>
            </p:nvSpPr>
            <p:spPr>
              <a:xfrm>
                <a:off x="1422000" y="6441480"/>
                <a:ext cx="29520" cy="22212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20"/>
              <p:cNvSpPr/>
              <p:nvPr/>
            </p:nvSpPr>
            <p:spPr>
              <a:xfrm>
                <a:off x="1509840" y="6405120"/>
                <a:ext cx="29520" cy="25848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21"/>
              <p:cNvSpPr/>
              <p:nvPr/>
            </p:nvSpPr>
            <p:spPr>
              <a:xfrm>
                <a:off x="1598760" y="6478200"/>
                <a:ext cx="29520" cy="18540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22"/>
              <p:cNvSpPr/>
              <p:nvPr/>
            </p:nvSpPr>
            <p:spPr>
              <a:xfrm>
                <a:off x="1690920" y="6407280"/>
                <a:ext cx="29520" cy="258480"/>
              </a:xfrm>
              <a:prstGeom prst="rect">
                <a:avLst/>
              </a:prstGeom>
              <a:solidFill>
                <a:srgbClr val="004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2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C03A-9C73-4525-AEF7-57C1B0B5218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76000" y="1684080"/>
            <a:ext cx="7134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06480" y="2771280"/>
            <a:ext cx="500364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2"/>
          <p:cNvSpPr/>
          <p:nvPr/>
        </p:nvSpPr>
        <p:spPr>
          <a:xfrm>
            <a:off x="6705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32A-8A22-4B5E-B3EA-5BBF73D1FAD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2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6705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11A-DD81-4B0B-A1DA-782C90F207AE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313920"/>
            <a:ext cx="8142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ad razmišljate o sebi, mislite li da se kvaliteta život Vas i Vaše obitelji poboljšala, pogoršala, ili ostala otprilike ista u posljednje tri godi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68360" y="876240"/>
            <a:ext cx="814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808080"/>
                </a:solidFill>
                <a:latin typeface="Arial"/>
              </a:rPr>
              <a:t>Baza: Ukupna ciljana populaci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88880" y="1252440"/>
          <a:ext cx="8521920" cy="49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252440"/>
                    <a:ext cx="852192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2"/>
          <p:cNvSpPr/>
          <p:nvPr/>
        </p:nvSpPr>
        <p:spPr>
          <a:xfrm>
            <a:off x="6705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AB31-BDF6-4C29-AD1F-F1E73BFDB1D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313920"/>
            <a:ext cx="8142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ad razmišljate o sebi, mislite li da se kvaliteta život Vas i Vaše obitelji poboljšala, pogoršala, ili ostala otprilike ista u posljednje tri godi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468360" y="876240"/>
            <a:ext cx="814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808080"/>
                </a:solidFill>
                <a:latin typeface="Arial"/>
              </a:rPr>
              <a:t>Baza: Ukupna ciljana populaci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141120" y="1700280"/>
          <a:ext cx="464364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700280"/>
                    <a:ext cx="4643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5"/>
          <p:cNvGraphicFramePr/>
          <p:nvPr/>
        </p:nvGraphicFramePr>
        <p:xfrm>
          <a:off x="4643280" y="1630440"/>
          <a:ext cx="4270680" cy="34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30440"/>
                    <a:ext cx="427068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07:16:32Z</dcterms:created>
  <dc:creator>Puls d.o.o.</dc:creator>
  <dc:description>4/20-02 • v02</dc:description>
  <cp:keywords>4/20-02 • v02</cp:keywords>
  <dc:language>en-US</dc:language>
  <cp:lastModifiedBy>AleksandarZoric</cp:lastModifiedBy>
  <dcterms:modified xsi:type="dcterms:W3CDTF">2008-10-01T09:23:47Z</dcterms:modified>
  <cp:revision>19</cp:revision>
  <dc:subject/>
  <dc:title>Presentation</dc:title>
</cp:coreProperties>
</file>